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CAMERA.WAV" ContentType="audio/x-wav"/>
  <Override PartName="/ppt/media/LASER.WAV" ContentType="audio/x-wav"/>
  <Override PartName="/ppt/media/image2.png" ContentType="image/png"/>
  <Override PartName="/ppt/media/image3.wmf" ContentType="image/x-wmf"/>
  <Override PartName="/ppt/media/TYPE.WAV" ContentType="audio/x-wav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5262-353C-49ED-B601-DE7A6FC273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E4FB-3B2A-401C-8013-4B1770AD2FB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D96-35DE-4CFB-85E0-D4CFF69D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812-70D8-477C-86F9-8C407EE6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66F-233E-4D31-A120-624158D9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464-1384-4FBC-8D35-D57ABACF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39A2C-2310-4147-8752-A1BFA757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D08F3-A129-41D6-87FE-1EBA834A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47D33-38DB-4BB3-ACDB-BFC8A513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20B5A-0FBB-42CF-A971-8364E3A4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31C64-84B5-44A8-8B76-34567C6D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7C661-3C3E-4EE4-AED5-0A92C670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3CF3B-230E-4074-9E09-7A530789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8A2-E26E-4579-BB7F-F3306024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AA3A4-ECD1-43CD-BB43-858BA2AC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5F061-DB6E-40C3-A43E-6F3E85EE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65D18-DE43-4EE5-9F60-9E7F61D8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5133B-1BCA-47DD-9CF0-03A5FDF7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B1B96-0534-4598-B8FB-1A3AB8C7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03ECA-D0D0-4E91-A79E-FDFF2559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8B159-A87D-43D1-8A69-4C626DC3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F86C7-6E9C-4447-AE92-D4462B6E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28DAF-825C-4034-A869-753622C3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14974-0601-4759-A07C-D4904DA3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EEB-8AFD-42D9-8C77-09F79098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C4D5F-5060-4FEB-95C9-77717E18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F0D48-8DD3-444B-AF76-7FF1A2BB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05E2D-D055-463D-BFDF-EDB1686B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6BC2-197B-4401-A156-CC368A99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DD00-AA1B-464B-9D02-F9AF957C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00D0A-32E5-4322-B30E-5C897A1A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E55B6-519E-4351-B6D2-1B802D6B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4A4F3-A204-4A93-A1C5-9723F0EC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1746B-C8C3-44D3-9CA9-2655559D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EE9E4-15CD-40EB-A0A0-4CFF0F0D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251-32C5-4FF4-A446-475D2458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22F618-ED12-496E-A55A-10FB9BAD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28A23A-2C1A-45F6-A596-77D04AE0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651BC6-1C6A-46D0-BFEB-6514D13F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98F730-7703-4F34-8208-CEFBEDD0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32D3A5-1EEC-4E10-8014-B13E1813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FF6D6A-A627-454F-8BFF-9CBEA16B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1FF5C-100A-428A-9C52-93EF858B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784791-68B7-47EB-9CB0-DC138A43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95B330-3B2E-4A7A-8EFD-FF95C13C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9DDA9-3D48-461B-935F-AAE91E22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8B8-5187-41E7-B740-3C391606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496E0-79DA-406D-8AA5-C91CCCAE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8531B-80E9-4E80-8E99-5A735496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355D1-7A0C-423A-8505-CA04A1B6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873B4-A1B8-4005-BB9D-3BF1499B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EA3B8-70C6-4F31-93D8-D9D3A01E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63A01E-C5F0-4583-9E51-17E52F84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97ACC-309C-47AB-AB08-55FDA9FB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8406E-E2B3-49F9-9689-FCCD9005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94B7A-0FC5-4FE1-AD6F-D95492E1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FD6A3-3110-493B-B4A6-59B47152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C30-8930-4181-916F-4D40CACE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48DBA-563B-4D97-8344-24A6E53C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A5CC79-1C05-4A82-810C-294A8328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C32D1D-FCA7-4067-B1B2-E69FB617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70230-BB65-4B2B-A5C6-4D63C5CD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6D0853-D630-4795-A39D-DE2B61B4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92DC8F-19D6-448A-BF97-78656E0F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15FEB-4809-4804-A157-2F80B17D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9918A-9F2B-4178-9B9A-EAE3529B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9D5229-8F63-4EAC-9590-BA7BEF71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3D35D4-A6FB-4D8C-BC0B-5D6C6984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94DE-9B5B-441C-846F-6FF84C9F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3CD3CB-D5F4-45FB-AAC8-4674208C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76885-B075-4E3B-8AA2-4209D33E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B4ABF-4C46-4DED-9C44-E3C90E5A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CBA-12E9-4D6F-89ED-7266025A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75A-4E3A-431B-93BE-2C0FC8E7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B4DB-C028-430F-9BDF-755FE152F91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onector drept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Conector drept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6F1F-1212-4A87-8948-B3B1A09F35C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ector drept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9E46-C594-4C90-97CD-2035368F092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ector drept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Conector drept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C4A3-7FC3-4495-BA65-E2D5915792F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E355-BA3B-43F2-A2AC-1CFE711EB50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9B7E-53F0-45A5-8C1C-33F73C3711E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tomu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ructura atomului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pic>
        <p:nvPicPr>
          <p:cNvPr id="261" name="Object 6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1857240" cy="399564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8" descr=""/>
          <p:cNvPicPr/>
          <p:nvPr/>
        </p:nvPicPr>
        <p:blipFill>
          <a:blip r:embed="rId3"/>
          <a:stretch/>
        </p:blipFill>
        <p:spPr>
          <a:xfrm>
            <a:off x="6705720" y="2362320"/>
            <a:ext cx="1752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efac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b59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b59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395280" y="33336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tapele metode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06440" y="1197000"/>
            <a:ext cx="84135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lasa se imparte in 3 grupe de cate 4 ele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iecare grupa trebuie sa faca  o lista  cu tot ce stie si ce vrea sa stie despre a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3.   Dupa 10 minute de lucru pe grupe se completeaza pe tabla tabelul  folosindu-se de listele realizate de ele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-252360" y="333864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279360" y="3851280"/>
            <a:ext cx="8381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ea ce stim/credem ca stim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ea ce vrem sa st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243000" y="412920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8"/>
          <p:cNvSpPr/>
          <p:nvPr/>
        </p:nvSpPr>
        <p:spPr>
          <a:xfrm>
            <a:off x="257040" y="411480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304920" y="601992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8915400" y="411480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11"/>
          <p:cNvSpPr/>
          <p:nvPr/>
        </p:nvSpPr>
        <p:spPr>
          <a:xfrm>
            <a:off x="8839080" y="5943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>
            <a:off x="4676760" y="42004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5483160" y="685800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304920" y="495288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228600" y="533412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6"/>
          <p:cNvSpPr/>
          <p:nvPr/>
        </p:nvSpPr>
        <p:spPr>
          <a:xfrm>
            <a:off x="228600" y="571500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17"/>
          <p:cNvSpPr/>
          <p:nvPr/>
        </p:nvSpPr>
        <p:spPr>
          <a:xfrm>
            <a:off x="228600" y="59436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18"/>
          <p:cNvSpPr/>
          <p:nvPr/>
        </p:nvSpPr>
        <p:spPr>
          <a:xfrm>
            <a:off x="8915400" y="59436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19"/>
          <p:cNvSpPr/>
          <p:nvPr/>
        </p:nvSpPr>
        <p:spPr>
          <a:xfrm>
            <a:off x="228600" y="6019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20"/>
          <p:cNvSpPr/>
          <p:nvPr/>
        </p:nvSpPr>
        <p:spPr>
          <a:xfrm flipH="1">
            <a:off x="228240" y="6019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75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75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0" y="914400"/>
            <a:ext cx="85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Profesorul cere grupelor sa spuna ce au scris si noteaza in coloana din stanga informatiile cu care tot grupul este de ac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0" y="2166840"/>
            <a:ext cx="80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Folosind aceeasi metoda elevii vor elabora o lista de intreba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0" y="3121200"/>
            <a:ext cx="8520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Profesorul noteaza in a doua coloana a tabelului intrebarile. Aceste intrebari vor evidentia nevoile de invatare ale elevilor in legatura cu tema abor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-380880" y="5122800"/>
            <a:ext cx="998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efac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2:35:40Z</dcterms:created>
  <dc:creator>Fritz</dc:creator>
  <dc:description/>
  <dc:language>en-US</dc:language>
  <cp:lastModifiedBy>user</cp:lastModifiedBy>
  <dcterms:modified xsi:type="dcterms:W3CDTF">2010-05-25T23:18:41Z</dcterms:modified>
  <cp:revision>15</cp:revision>
  <dc:subject/>
  <dc:title>Simona mezei</dc:title>
</cp:coreProperties>
</file>